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CE4A-C9BE-4A88-9FDE-E594C893E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– using map perspec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Euro-centric view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ening personal and cultural persp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– using map perspect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Euro-centric view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ening personal and cultural persp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9B7-D301-4D43-88B1-EDB8FAA9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B8E-7897-46ED-BF39-FB740C9E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FB5-027D-4E26-820C-BD0B9C77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491-2237-484A-8C61-85AAC2FD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FE8-EC9B-4E3B-92D7-62E26B20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774-D40B-42C6-B6E1-872A8259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14F-13F1-4643-8019-3D324E88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59D-5385-4901-9506-CA186951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F7C-AD77-4228-81B5-F3F82B52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021-014B-48BA-A597-AA8C8ED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5CD-9926-493A-80FE-66871CB4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313-BBB9-49A1-A1DC-75546D57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E38B-9ACA-4381-9F79-A23BD7968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nsmojo.com/HackOpticalIllusionsImage03.gif&amp;imgrefurl=http://profile.myspace.com/77356913&amp;h=362&amp;w=360&amp;sz=80&amp;hl=en&amp;start=111&amp;um=1&amp;usg=__gnOoUMfDlTMEJgMH-YHC6JqJfA8=&amp;tbnid=RkE4zhomNzhSkM:&amp;tbnh=121&amp;tbnw=120&amp;prev=/images%3Fq%3Doptical%2Billusions%255B%26start%3D108%26ndsp%3D18%26um%3D1%26hl%3Den%26rls%3Dcom.microsoft:en-US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ext:  World History 4</a:t>
            </a:r>
            <a:r>
              <a:rPr b="0" lang="en-US" sz="3200" spc="-1" strike="noStrike" baseline="30000">
                <a:solidFill>
                  <a:srgbClr val="ffff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uiker/Spielvo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76520" y="838080"/>
            <a:ext cx="6095880" cy="29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orld Histor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7011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333680" cy="5772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438156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981680" cy="375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572000" y="4657680"/>
            <a:ext cx="32767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75164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world map with as many continents, countries, and oceans/waterways as 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bi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is a term used to describe a tendency or preference towards a particular perspective, ideology or result, especially when the tendency interferes with the ability to be impartial, unprejudiced, or objecti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consider to find b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– ethnicity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coloring or influencing the auth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 – who is the work intend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5 W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ed Words – best underl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used with DBQ – Document Ba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find biases in oral and written communication and docu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: Article Perspective an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ff66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Sylla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Assignment – Chapter 1 Pages 2- 14 Due for Thursday – expect reading quiz – True and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mes of Understan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orld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ystems - structure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Ideas – power and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 and History – meeting of needs/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Life and Gender Issue – class structures/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ulture – High/Pop 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 in History – spread/impact/changes to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Role of Individuals – man makes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of Science and Technology –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 and History – human imp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gration of People – why people mo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Multiple Persp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How do we se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19810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84072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434808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197000"/>
            <a:ext cx="4141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21:49:23Z</dcterms:created>
  <dc:creator>ripkensa</dc:creator>
  <dc:description/>
  <dc:language>en-US</dc:language>
  <cp:lastModifiedBy>ripkensa</cp:lastModifiedBy>
  <dcterms:modified xsi:type="dcterms:W3CDTF">2009-08-31T22:23:35Z</dcterms:modified>
  <cp:revision>12</cp:revision>
  <dc:subject/>
  <dc:title>World History</dc:title>
</cp:coreProperties>
</file>